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1CD-4437-4420-A954-EA871771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0A6-DB22-4133-BF8E-21ABFCF2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D39-972E-46CE-A113-4E6A964B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CFC-9F02-4762-B80E-490B1F35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97D0-3962-43CF-88E8-C0BA8A9D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04D-2924-42ED-B93C-B4FCBAB8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BDF-4C05-4075-95CC-E8C8C9DF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3F21-6AF4-4680-89B8-FCCBE4CE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944-EA17-443B-BB9A-1709A4EE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A2C-0E1A-440B-87E2-F210552E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DDD-971C-45BB-9195-04EC555F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B87-4C6E-4ECD-87D7-A649589A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EA47-CE51-453A-A300-A8B2CB45EB7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1" descr="Descripción: http://fjferrer.webs.ull.es/Apuntes3/Leccion02/Imagen5.10.png"/>
          <p:cNvPicPr/>
          <p:nvPr/>
        </p:nvPicPr>
        <p:blipFill>
          <a:blip r:embed="rId1"/>
          <a:stretch/>
        </p:blipFill>
        <p:spPr>
          <a:xfrm>
            <a:off x="1041480" y="755640"/>
            <a:ext cx="6915240" cy="5867280"/>
          </a:xfrm>
          <a:prstGeom prst="rect">
            <a:avLst/>
          </a:prstGeom>
          <a:ln w="0">
            <a:noFill/>
          </a:ln>
        </p:spPr>
      </p:pic>
      <p:sp>
        <p:nvSpPr>
          <p:cNvPr id="42" name="4 CuadroTexto"/>
          <p:cNvSpPr/>
          <p:nvPr/>
        </p:nvSpPr>
        <p:spPr>
          <a:xfrm>
            <a:off x="1041480" y="361800"/>
            <a:ext cx="67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LUJO Y BALANCE ENERGÉT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tecnun.es/asignaturas/Ecologia/Hipertexto/04Ecosis/04-9Car.jpg"/>
          <p:cNvPicPr/>
          <p:nvPr/>
        </p:nvPicPr>
        <p:blipFill>
          <a:blip r:embed="rId1"/>
          <a:stretch/>
        </p:blipFill>
        <p:spPr>
          <a:xfrm>
            <a:off x="1041480" y="1052640"/>
            <a:ext cx="6770520" cy="5408640"/>
          </a:xfrm>
          <a:prstGeom prst="rect">
            <a:avLst/>
          </a:prstGeom>
          <a:ln w="0">
            <a:noFill/>
          </a:ln>
        </p:spPr>
      </p:pic>
      <p:sp>
        <p:nvSpPr>
          <p:cNvPr id="44" name="3 CuadroTexto"/>
          <p:cNvSpPr/>
          <p:nvPr/>
        </p:nvSpPr>
        <p:spPr>
          <a:xfrm>
            <a:off x="1041480" y="361800"/>
            <a:ext cx="67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ICLO DEL CARBO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3.bp.blogspot.com/-QGASZGqc5vk/T6n2ynO-0zI/AAAAAAAAAB8/pBpZsWkgR6k/s1600/Ciclo+del+nitrogeno.jpg"/>
          <p:cNvPicPr/>
          <p:nvPr/>
        </p:nvPicPr>
        <p:blipFill>
          <a:blip r:embed="rId1"/>
          <a:stretch/>
        </p:blipFill>
        <p:spPr>
          <a:xfrm>
            <a:off x="0" y="981000"/>
            <a:ext cx="9067680" cy="5734080"/>
          </a:xfrm>
          <a:prstGeom prst="rect">
            <a:avLst/>
          </a:prstGeom>
          <a:ln w="0">
            <a:noFill/>
          </a:ln>
        </p:spPr>
      </p:pic>
      <p:sp>
        <p:nvSpPr>
          <p:cNvPr id="46" name="4 CuadroTexto"/>
          <p:cNvSpPr/>
          <p:nvPr/>
        </p:nvSpPr>
        <p:spPr>
          <a:xfrm>
            <a:off x="1041480" y="361800"/>
            <a:ext cx="67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ICLO DEL NITRÓG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3 CuadroTexto"/>
          <p:cNvSpPr/>
          <p:nvPr/>
        </p:nvSpPr>
        <p:spPr>
          <a:xfrm>
            <a:off x="1041480" y="361800"/>
            <a:ext cx="67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ICLO DEL AG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014480" y="1052640"/>
            <a:ext cx="7470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18:46Z</dcterms:created>
  <dc:creator>Luffi</dc:creator>
  <dc:description/>
  <dc:language>en-US</dc:language>
  <cp:lastModifiedBy>Luffi</cp:lastModifiedBy>
  <dcterms:modified xsi:type="dcterms:W3CDTF">2014-05-22T17:51:28Z</dcterms:modified>
  <cp:revision>2</cp:revision>
  <dc:subject/>
  <dc:title>Presentación de PowerPoint</dc:title>
</cp:coreProperties>
</file>